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CC5-3807-43C6-A338-AABA62EF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3CB-224B-4F6F-9EA3-B609EBD9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537-5E02-4C68-8CAA-3543C36D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3A3-C5DF-4B90-A625-3DDA3BF4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5754-1472-4CF1-BE03-CAAB5ED8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5ECE-C624-463D-9C8E-F2493482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4EDB-343E-43DE-A51C-4EFC8B61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009D-3292-4773-9B36-C942D0A9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1B81-6AA0-4B41-932A-A541F319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B15D-A0C8-4AC9-84CA-148310E4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D7D-9B28-44E1-B124-CFBE6C71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7D6-C50D-4E30-B628-16593072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7582-176B-4624-8734-05B8B33F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F11E-F9B2-41F5-94FB-DD96A494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D64A-38AD-4F9F-A901-77541CC9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588-A059-4C15-8A5F-E06BC8C1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3B36-EE94-4BEF-B339-A0591850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ED26-6B00-4EA4-AE83-0FC0B6F9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020-2506-42B0-84B8-78B1347E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F5E-6F20-40AE-8C12-FD76BE50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63288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4CCD-F60D-4309-927B-EBFC4CA5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FB1-FAD0-4E18-99EA-B54D358B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D4D-5DD1-4476-B3FD-FFFD0BBC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C4B9-4940-4F14-ACC7-53D18FF8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32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44244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09560" y="63162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366960" y="6302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500F-7DAE-4E3D-AD3E-66D506754B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548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3240" y="4294080"/>
            <a:ext cx="9140760" cy="2590920"/>
            <a:chOff x="3240" y="4294080"/>
            <a:chExt cx="9140760" cy="2590920"/>
          </a:xfrm>
        </p:grpSpPr>
        <p:sp>
          <p:nvSpPr>
            <p:cNvPr id="109" name=""/>
            <p:cNvSpPr/>
            <p:nvPr/>
          </p:nvSpPr>
          <p:spPr>
            <a:xfrm>
              <a:off x="3240" y="4294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600880" y="5924520"/>
              <a:ext cx="1256760" cy="827280"/>
              <a:chOff x="5600880" y="5924520"/>
              <a:chExt cx="1256760" cy="827280"/>
            </a:xfrm>
          </p:grpSpPr>
          <p:sp>
            <p:nvSpPr>
              <p:cNvPr id="111" name=""/>
              <p:cNvSpPr/>
              <p:nvPr/>
            </p:nvSpPr>
            <p:spPr>
              <a:xfrm>
                <a:off x="5852880" y="6075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916600" y="6122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05520" y="6173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68880" y="6211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2880" y="6253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76840" y="5924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7280" y="6647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600880" y="6227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67120" y="5972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10160" y="5934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208560" y="6294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819520" y="5791320"/>
              <a:ext cx="2581200" cy="1084320"/>
              <a:chOff x="2819520" y="5791320"/>
              <a:chExt cx="2581200" cy="1084320"/>
            </a:xfrm>
          </p:grpSpPr>
          <p:sp>
            <p:nvSpPr>
              <p:cNvPr id="123" name=""/>
              <p:cNvSpPr/>
              <p:nvPr/>
            </p:nvSpPr>
            <p:spPr>
              <a:xfrm>
                <a:off x="3600360" y="6272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673440" y="6310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6280" y="6343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759120" y="6372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86120" y="6384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68560" y="6418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0480" y="6465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35600" y="6531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103640" y="6094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0560" y="6141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05160" y="6103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1920" y="6446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282840" y="5877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63880" y="6143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684680" y="5981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679920" y="5791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45200" y="6504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5857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553080" y="5361120"/>
              <a:ext cx="2144880" cy="1303200"/>
              <a:chOff x="6553080" y="5361120"/>
              <a:chExt cx="2144880" cy="1303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667560" y="5427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3080" y="5370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07160" y="5361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27880" y="6388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151760" y="6492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470800" y="5827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4480" y="5780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56360" y="5665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904080" y="5599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45360" y="5570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85160" y="5675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16920" y="5754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67680" y="5789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18440" y="5821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88280" y="5865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45520" y="5897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1480" y="5945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8381880" y="4827600"/>
              <a:ext cx="674640" cy="409680"/>
              <a:chOff x="8381880" y="4827600"/>
              <a:chExt cx="674640" cy="409680"/>
            </a:xfrm>
          </p:grpSpPr>
          <p:sp>
            <p:nvSpPr>
              <p:cNvPr id="160" name=""/>
              <p:cNvSpPr/>
              <p:nvPr/>
            </p:nvSpPr>
            <p:spPr>
              <a:xfrm>
                <a:off x="8381880" y="5084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437680" y="4827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61480" y="4894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532720" y="5180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20040" y="4856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713800" y="4856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85200" y="4881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8542440" y="4924440"/>
                <a:ext cx="360360" cy="209520"/>
                <a:chOff x="8542440" y="4924440"/>
                <a:chExt cx="360360" cy="209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8542440" y="4924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577360" y="4946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621640" y="4962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64480" y="4987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6446880"/>
            <a:ext cx="9144000" cy="438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dt" idx="4"/>
          </p:nvPr>
        </p:nvSpPr>
        <p:spPr>
          <a:xfrm>
            <a:off x="394920" y="63086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5"/>
          </p:nvPr>
        </p:nvSpPr>
        <p:spPr>
          <a:xfrm>
            <a:off x="3404880" y="63421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6"/>
          </p:nvPr>
        </p:nvSpPr>
        <p:spPr>
          <a:xfrm>
            <a:off x="6399360" y="630864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E5B3-8B1B-404F-91D1-16668C43CF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985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章：形式化说明技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91352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非形式化方法：自然语言描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半形式化方法：数据流图或实体－联系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式化方法：基于数学技术描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84360" y="1195200"/>
            <a:ext cx="79912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评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有穷状态机描述规格说明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当前状态＋事件＋谓词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=&gt;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下个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易于书写、验证、转变成设计或程序代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4070520"/>
            <a:ext cx="6985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有穷状态机方法比数据流图技术更精确，一样易于理解。但不能处理定时需求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3640" y="775800"/>
            <a:ext cx="333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01800" y="1488600"/>
            <a:ext cx="495288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70866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26920" y="1009800"/>
            <a:ext cx="784872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tri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网包含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种元素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一组位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P1,P2,P3,P4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组转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{t1,t2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入函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2,P4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2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出函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上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1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{P3,P3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更形式化的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etri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网结构，是一个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元组（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232000" y="540864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95280" y="1203480"/>
            <a:ext cx="6629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95280" y="1131840"/>
            <a:ext cx="6629400" cy="40975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232000" y="540864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447920" y="1082520"/>
            <a:ext cx="6400800" cy="4291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232000" y="5479920"/>
            <a:ext cx="50832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权标向量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117440"/>
            <a:ext cx="7989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更形式化地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标记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&gt;{0,1,2,…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成为一个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元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对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tri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网的一个重要扩充是加入禁止线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665360" y="1700280"/>
            <a:ext cx="5715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120" y="7398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3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例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电梯按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90520" y="2276640"/>
            <a:ext cx="6910560" cy="35067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973080" y="5661000"/>
            <a:ext cx="7775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梯中楼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按钮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16840" y="333360"/>
            <a:ext cx="1563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.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楼层按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63640" y="1001880"/>
            <a:ext cx="5856480" cy="4957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11280" y="5734080"/>
            <a:ext cx="828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向上按钮；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B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楼层向下按钮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3640" y="506520"/>
            <a:ext cx="216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4.1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6360" y="980640"/>
            <a:ext cx="8496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1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非形式化方法的缺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自然语言书写的系统规格说明书可能存在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矛盾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二义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：</a:t>
            </a:r>
            <a:r>
              <a:rPr b="1" lang="zh-CN" sz="2400" spc="-1" strike="noStrike">
                <a:solidFill>
                  <a:srgbClr val="ccecff"/>
                </a:solidFill>
                <a:latin typeface="仿宋_GB2312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操作员标识由操作员姓名和密码组成，密码由</a:t>
            </a:r>
            <a:r>
              <a:rPr b="1" lang="en-US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位数字构成，当操作员登陆系统时它被存储在注册文件中</a:t>
            </a:r>
            <a:r>
              <a:rPr b="1" lang="zh-CN" sz="2400" spc="-1" strike="noStrike">
                <a:solidFill>
                  <a:srgbClr val="ccecff"/>
                </a:solidFill>
                <a:latin typeface="仿宋_GB2312"/>
                <a:ea typeface="仿宋_GB2312"/>
              </a:rPr>
              <a:t>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含糊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不完整性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抽象层次混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99640" y="1270080"/>
            <a:ext cx="7559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基于数学的形式化说明技术，目前还没有在软件产业界广泛应用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应该把形式化方法与传统方法有机结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1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形式化方法的优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数学是理想的建模工具，适合于表示系统状态和描述系统需求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953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用数学表达的需求可在不同开发阶段平滑过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3502080"/>
            <a:ext cx="77724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.1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应用形式化方法的准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选择合适的形式化方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需要形式化，但不能过渡形式化，不能放弃传统的需求表达方法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95320" indent="-8953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）应该有形式化方法的专家提供指导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652320"/>
            <a:ext cx="54752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有穷状态机法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S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415520"/>
            <a:ext cx="632484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2017800"/>
            <a:ext cx="7634520" cy="33559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5445000"/>
            <a:ext cx="805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锁的三个位置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； 转盘可向左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或右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）；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锁密码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280" y="1482840"/>
            <a:ext cx="88394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44120" y="884160"/>
            <a:ext cx="78598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个有穷状态机包括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部分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状态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保险箱锁定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保险箱解锁，报警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输入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1L,1R,2L,2R,3L,3R}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转换函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初始状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保险箱锁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终态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保险箱解锁，报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更形式化的术语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个有穷状态机可表示一个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元组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,K,T,S,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401840" y="2617920"/>
            <a:ext cx="7634160" cy="34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状态转换形式</a:t>
            </a:r>
            <a:r>
              <a:rPr b="1" lang="zh-CN" sz="2800" spc="-1" strike="noStrike">
                <a:solidFill>
                  <a:srgbClr val="ccecff"/>
                </a:solidFill>
                <a:latin typeface="Arial"/>
                <a:ea typeface="黑体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当前状态【菜单】＋事件【所选择的项】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下个状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加入谓词集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P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把系统扩展成一个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元组后</a:t>
            </a:r>
            <a:r>
              <a:rPr b="1" lang="zh-CN" sz="2800" spc="-1" strike="noStrike">
                <a:solidFill>
                  <a:srgbClr val="ccecff"/>
                </a:solidFill>
                <a:latin typeface="黑体"/>
                <a:ea typeface="黑体"/>
              </a:rPr>
              <a:t>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当前状态【菜单】＋事件【所选择的项】＋谓词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下个状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2560" y="974880"/>
            <a:ext cx="7993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计算机系统中每个菜单驱动的用户界面都是一个有穷状态机的实现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96720" y="1557000"/>
            <a:ext cx="856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定义状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(d,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正沿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向移动，即将到达第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d,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停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楼，将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方向移动（未关门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等待（已关门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C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楼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关上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(e,f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靠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层时触发传感器，电梯控制器决定在当前楼层是否停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04960"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电梯按钮或楼层按钮被按下进入打开状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9640" y="1054080"/>
            <a:ext cx="5256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4.2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例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电梯的状态转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92360" y="853920"/>
            <a:ext cx="5688000" cy="4519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11280" y="5373720"/>
            <a:ext cx="84247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电梯状态转换规则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U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M(U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+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76212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D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M(D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1);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(N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+DC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=&gt;W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25:47Z</dcterms:created>
  <dc:creator>yzg</dc:creator>
  <dc:description/>
  <dc:language>en-US</dc:language>
  <cp:lastModifiedBy>MC SYSTEM</cp:lastModifiedBy>
  <dcterms:modified xsi:type="dcterms:W3CDTF">2015-03-16T07:44:18Z</dcterms:modified>
  <cp:revision>504</cp:revision>
  <dc:subject/>
  <dc:title>软件工程</dc:title>
</cp:coreProperties>
</file>